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6965-FEE1-4851-AB7E-9E9B312F5DD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568A-B5D5-47F8-8E31-12CF2E21439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154F-94B0-46AF-8F94-33538551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7D83-3523-44C7-81EB-5DC151CA1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F882-2FF4-41C5-BA2C-3BEC5181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2093-CCA7-46D2-927D-53BEB3F6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A1C6-19C2-48EB-A8CC-67D76BEF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4F0-A566-49DF-8C74-2AF0B6C4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133A-8B49-474D-B160-F6DE0E24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D7B6-6D92-44A9-BE6A-3C26BDE9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B624-440D-495C-9FFC-CBF712F6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DB78-74DF-4A29-93EB-A7F78CFC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EA65-498C-40E0-979E-B338C7C2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CA55-8B21-4F33-A177-98DCEF01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A0BC-13B5-4BB6-8593-E3B103337AF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verview DZ new 300912"/>
          <p:cNvPicPr/>
          <p:nvPr/>
        </p:nvPicPr>
        <p:blipFill>
          <a:blip r:embed="rId1"/>
          <a:stretch/>
        </p:blipFill>
        <p:spPr>
          <a:xfrm>
            <a:off x="1703520" y="0"/>
            <a:ext cx="744048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-87120" y="2860560"/>
            <a:ext cx="190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 Sites new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ial 201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Logo Mondial 2012 new"/>
          <p:cNvPicPr/>
          <p:nvPr/>
        </p:nvPicPr>
        <p:blipFill>
          <a:blip r:embed="rId3"/>
          <a:stretch/>
        </p:blipFill>
        <p:spPr>
          <a:xfrm>
            <a:off x="60480" y="539892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Line 13"/>
          <p:cNvSpPr/>
          <p:nvPr/>
        </p:nvSpPr>
        <p:spPr>
          <a:xfrm>
            <a:off x="4135320" y="5284800"/>
            <a:ext cx="460872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 rot="357000">
            <a:off x="5819400" y="5289480"/>
            <a:ext cx="1343520" cy="276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5,3 km (3,3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66000" y="5865840"/>
            <a:ext cx="15667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orse Race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nopy Formation/Sty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7326000" y="2557440"/>
            <a:ext cx="1569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D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istic Events/Accura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4140360" y="2814480"/>
            <a:ext cx="2952720" cy="2448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9197600">
            <a:off x="5325120" y="3819240"/>
            <a:ext cx="1343520" cy="276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5 km (2,8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7093080" y="2735280"/>
            <a:ext cx="1655640" cy="309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326000" y="3743280"/>
            <a:ext cx="134352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770120" y="2630520"/>
            <a:ext cx="524988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628800" y="27082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6,0 km (3,7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 rot="2086800">
            <a:off x="7048080" y="2459160"/>
            <a:ext cx="21600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1763280" y="2636640"/>
            <a:ext cx="2373480" cy="26031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790640" y="1878120"/>
            <a:ext cx="1778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lm Jumeir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/Arti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068200" y="37828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410560" y="5553000"/>
            <a:ext cx="1727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kydive Dubai DZ 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nding/Canopy Pilo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lm Jumeirah alternate DZs"/>
          <p:cNvPicPr/>
          <p:nvPr/>
        </p:nvPicPr>
        <p:blipFill>
          <a:blip r:embed="rId1"/>
          <a:stretch/>
        </p:blipFill>
        <p:spPr>
          <a:xfrm>
            <a:off x="1711440" y="22320"/>
            <a:ext cx="7397640" cy="68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" name="Line 3"/>
          <p:cNvSpPr/>
          <p:nvPr/>
        </p:nvSpPr>
        <p:spPr>
          <a:xfrm flipH="1">
            <a:off x="4859280" y="2578320"/>
            <a:ext cx="406800" cy="2380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4311720" y="2790720"/>
            <a:ext cx="1320840" cy="208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 rot="604800">
            <a:off x="1953720" y="2220840"/>
            <a:ext cx="414360" cy="10335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6666800">
            <a:off x="1705320" y="26208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DZ FS/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Logo Mondial 2012 new"/>
          <p:cNvPicPr/>
          <p:nvPr/>
        </p:nvPicPr>
        <p:blipFill>
          <a:blip r:embed="rId2"/>
          <a:stretch/>
        </p:blipFill>
        <p:spPr>
          <a:xfrm>
            <a:off x="38160" y="6984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ogo Mondial 2012 new"/>
          <p:cNvPicPr/>
          <p:nvPr/>
        </p:nvPicPr>
        <p:blipFill>
          <a:blip r:embed="rId3"/>
          <a:stretch/>
        </p:blipFill>
        <p:spPr>
          <a:xfrm>
            <a:off x="31680" y="5830920"/>
            <a:ext cx="1616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Z Option C close look"/>
          <p:cNvPicPr/>
          <p:nvPr/>
        </p:nvPicPr>
        <p:blipFill>
          <a:blip r:embed="rId1"/>
          <a:stretch/>
        </p:blipFill>
        <p:spPr>
          <a:xfrm>
            <a:off x="1728720" y="31680"/>
            <a:ext cx="7380360" cy="678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 Mondial 2012 new"/>
          <p:cNvPicPr/>
          <p:nvPr/>
        </p:nvPicPr>
        <p:blipFill>
          <a:blip r:embed="rId2"/>
          <a:stretch/>
        </p:blipFill>
        <p:spPr>
          <a:xfrm>
            <a:off x="38160" y="17136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 rot="271800">
            <a:off x="2814480" y="1811160"/>
            <a:ext cx="1150920" cy="316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 rot="16483800">
            <a:off x="2630880" y="309852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ogo Mondial 2012 new"/>
          <p:cNvPicPr/>
          <p:nvPr/>
        </p:nvPicPr>
        <p:blipFill>
          <a:blip r:embed="rId3"/>
          <a:stretch/>
        </p:blipFill>
        <p:spPr>
          <a:xfrm>
            <a:off x="34920" y="568656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3971160000[1]"/>
          <p:cNvPicPr/>
          <p:nvPr/>
        </p:nvPicPr>
        <p:blipFill>
          <a:blip r:embed="rId4"/>
          <a:stretch/>
        </p:blipFill>
        <p:spPr>
          <a:xfrm>
            <a:off x="4427640" y="3105000"/>
            <a:ext cx="38088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Cj03971160000[1]"/>
          <p:cNvPicPr/>
          <p:nvPr/>
        </p:nvPicPr>
        <p:blipFill>
          <a:blip r:embed="rId5"/>
          <a:stretch/>
        </p:blipFill>
        <p:spPr>
          <a:xfrm>
            <a:off x="2050920" y="1989000"/>
            <a:ext cx="38124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Cj03971160000[1]"/>
          <p:cNvPicPr/>
          <p:nvPr/>
        </p:nvPicPr>
        <p:blipFill>
          <a:blip r:embed="rId6"/>
          <a:stretch/>
        </p:blipFill>
        <p:spPr>
          <a:xfrm>
            <a:off x="1908000" y="400536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211640" y="35514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 rot="16414800">
            <a:off x="1619640" y="29228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Alternate DZ FS-AE"/>
          <p:cNvPicPr/>
          <p:nvPr/>
        </p:nvPicPr>
        <p:blipFill>
          <a:blip r:embed="rId1"/>
          <a:stretch/>
        </p:blipFill>
        <p:spPr>
          <a:xfrm>
            <a:off x="1893960" y="0"/>
            <a:ext cx="7250040" cy="682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Logo Mondial 2012 new"/>
          <p:cNvPicPr/>
          <p:nvPr/>
        </p:nvPicPr>
        <p:blipFill>
          <a:blip r:embed="rId3"/>
          <a:stretch/>
        </p:blipFill>
        <p:spPr>
          <a:xfrm>
            <a:off x="66600" y="5543640"/>
            <a:ext cx="161604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-26640" y="2031840"/>
            <a:ext cx="173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itional Drop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dia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ion Skydiving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 rot="2455200">
            <a:off x="6516720" y="2997000"/>
            <a:ext cx="1008000" cy="1512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 rot="18775800">
            <a:off x="6333120" y="35096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MCj03971160000[1]"/>
          <p:cNvPicPr/>
          <p:nvPr/>
        </p:nvPicPr>
        <p:blipFill>
          <a:blip r:embed="rId4"/>
          <a:stretch/>
        </p:blipFill>
        <p:spPr>
          <a:xfrm>
            <a:off x="5859360" y="310500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5643000" y="28065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MCj03971160000[1]"/>
          <p:cNvPicPr/>
          <p:nvPr/>
        </p:nvPicPr>
        <p:blipFill>
          <a:blip r:embed="rId5"/>
          <a:stretch/>
        </p:blipFill>
        <p:spPr>
          <a:xfrm>
            <a:off x="6423120" y="2492280"/>
            <a:ext cx="3808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40:15Z</dcterms:created>
  <dc:creator>H. Schlecht</dc:creator>
  <dc:description/>
  <dc:language>en-US</dc:language>
  <cp:lastModifiedBy>Liam</cp:lastModifiedBy>
  <dcterms:modified xsi:type="dcterms:W3CDTF">2012-10-24T10:18:25Z</dcterms:modified>
  <cp:revision>10</cp:revision>
  <dc:subject/>
  <dc:title>Folie 1</dc:title>
</cp:coreProperties>
</file>