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2DAFD-8D2E-464B-AE4D-1F91BA5BF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75C04-EA33-4D64-824B-217749930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7103-B387-453F-AF88-CB7D163D8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6272-335C-4E2B-9BF8-D5781C514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648D-6612-41BA-B5D2-472D17EA6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715C-06D0-4AB1-9B88-DF8AF6831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A5711-765B-4103-AFC7-D08B7A7AC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7F0AF-4F93-425F-AD7E-CB5482573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1D24D-013D-463D-971C-AE00E80BC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A3542-6E75-43B4-8F72-C65BC20DD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7BA0B-195A-4F8D-8932-08276308E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662C7-23B3-49EA-BD12-7601C25C4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BBCB4-5E1F-4E7B-8691-577F39C1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5DF0-9ABB-4818-AC5A-11C8F3822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53B9D-5E7B-456C-A7D8-347C3C55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63D73-0478-429A-80A4-3BE2E9AB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F57E7-014A-479E-B713-3584D1A4D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DE27B-9F21-4B5A-BAB0-40F178735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0BB49-998B-4DEF-8A04-2588159E1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0BDB3-114C-4A93-B639-AADD69C39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3F4A7-C5DD-429D-AA40-79E6AE58F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1C548-E1C5-475D-9B16-E70574066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91E4D-F03D-4532-BC91-15BD60BE3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2512A-F0ED-431A-8154-649B4C4D3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A8CD-AB4C-4BEB-86FC-2348944CF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554D5-4107-4A15-ABA6-171A6BACC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E8499-B8FB-466D-8998-34961760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2EFB7-3C87-4250-984E-60269670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F90C5-B204-46CF-86EC-54248E77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1F7D2-59EB-47F0-A02F-1BF3688BF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CC4B0-BA49-4524-B6C6-AB25EC6A0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17666-0FC9-419D-93C2-C32DA8F5C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1E030-B9FC-4656-9AFB-E69ECF224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CD776-BA63-451C-BAA3-E4BE6F53F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5EEF4-89E7-40D8-94C6-5753C98FB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2874-C92C-48C4-A914-11AF0E6C6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678A0-E017-4471-8519-EEF12BBB5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123B3-9587-4A3B-AED8-ACBA9C972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2E76A-18E4-472B-9A2E-1CFC96C8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8DB41-C157-418A-BFBD-3A9BF76A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19C44-6EA8-4667-81F2-AF9D00E9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28701-FCFA-4418-A966-8E7FD7A8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F83CF-CC66-472A-815F-1DD73C06E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93C41-014F-40DB-901C-FA8B2E00E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AD6D2-7A02-4E41-8E97-2BA185831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811B-1C41-4C92-A7A0-3098C61EE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D45C-5C0D-46BF-8E92-62B6CDD4A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B0D4-1B5E-4153-A5DA-B5E103E7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C1A4-0EF7-4D8D-85AD-A109CCBF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751C-EE95-4C6F-AC1B-FED35DDB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90045-70E5-4EE7-9C2B-2EA2156A67D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0E427-D9B5-4A39-B2E5-9A9B1C82258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3D3DD-9340-4238-A3FE-8B5B55DFE12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B92C-B7D8-4BF9-9AF5-C70BB49C158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who request copi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CD has the following material -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4 Safety Survey Report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4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5 Form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5 Notes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s (3) issued in 2015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4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5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7 countries responded, from a possible approximately 85, a response rate of 44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7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4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7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237,725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14,867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31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three Tandem fatalities in 2014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01,207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42,415 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31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(10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7 Intermediate   (2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1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(6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2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25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640"/>
            <a:ext cx="69836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ast Canopies - 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Reserve bridle entanglement with camera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elmet after unstable reserve activat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Issu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ain malfunction, no action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ow radical turn, high impact with water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using lung damage and death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stability, no Main deployment, AAD activated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reserve, freebag caught on jumper, insufficien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eight for reserve deployment, reserve line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rapped under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jumper’s arm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  1      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25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6 - 19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relates issu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nd Canopy Collision – each at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4 – 13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3 – 10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2 (39% of total fatalities, 31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31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0 (65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1 (35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5 (16%) might have been avoided by AAD us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3 (74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None of the 2014 Fatalities were First Jump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2 (39% of 31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640"/>
            <a:ext cx="8229600" cy="334152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9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075,020 Solo jumps – 1,162,705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3 ; Solo Fatalities 28 (31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6-01-14T20:42:49Z</dcterms:modified>
  <cp:revision>105</cp:revision>
  <dc:subject/>
  <dc:title>SAFETY &amp; TRAINING FORUM 25 January 2003</dc:title>
</cp:coreProperties>
</file>