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5CD38-61C2-4DC2-A981-6C218F3420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66B9-191A-407F-B2E5-CFDE2BB09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D373-8B09-49FE-A823-0BD52A639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0ADD-31D5-4B9B-8C27-CA923FACB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DFE1-EEBE-4842-B5CF-EAD51CEB5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4449C8-7D85-477A-85A7-44B831E22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DFCC70-0B19-4D30-8EC2-51D737637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AF8517-C552-4BEA-87F2-D51389F87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BA4E1F-D331-4EE6-A924-A2A6E464E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196C42-B31A-4A66-895E-2DF9D0930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FBF8BC-BCCE-4289-9A21-27E51CBC9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E7F6C9-FA97-4F2C-AC4A-CE54A3027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25C8-3EC1-4F8D-954F-D18A68C4F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448DEB-F06B-470C-8686-2EA259098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473C23-EB6A-4888-8233-2E25603B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7E9CAC-CDDF-42E3-B965-C5AF9A3E2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96192D-2B9D-4A89-BB8E-86635FFFD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0A3FCA-112F-4192-959E-34E41AEC5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4A81-6F06-48B5-A996-00F45AC6F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40FD-9E1D-452D-8101-A8445A954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8C49-BA40-4861-9E95-03F6BC651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FDDC-6CFB-4067-BCF8-8EEF14806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AE94-C915-4DC8-B7CA-1E7B72B63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D952-DAA4-4C8F-91BF-542116839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DBCD-7DB1-4CCD-B602-385EA76B6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2966D-247E-4292-B1C4-1D1A09EC30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48D72-8DE5-4703-B7F4-A1CD8B49B9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TECHNICAL &amp; SAFETY COMMITTE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99640" y="3886200"/>
            <a:ext cx="7559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International Parachuting Commiss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IE" sz="4800" spc="-1" strike="noStrike">
                <a:solidFill>
                  <a:srgbClr val="ffffff"/>
                </a:solidFill>
                <a:latin typeface="Tahoma"/>
              </a:rPr>
              <a:t>2001 Safety Repor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In 31 responding count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92 people were killed skydiv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6.872,438 skydives were ma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417,202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 Fatality per</a:t>
            </a:r>
            <a:r>
              <a:rPr b="1" lang="en-IE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74,700 jum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4,534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68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68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5400" spc="-1" strike="noStrike">
                <a:solidFill>
                  <a:srgbClr val="ffffff"/>
                </a:solidFill>
                <a:latin typeface="Tahoma"/>
              </a:rPr>
              <a:t>92 Fatalitie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7 Students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(29%)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0-25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3 Interm.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(25%)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6-250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42 Experts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(46%)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51+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Cutaway/No or low reserve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1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No pull/low pull on main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Others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6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68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68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Other ‘ Fatalities (64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Main/reserve Entanglement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Other Landing Error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2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Canopy Collision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Main Mal. – no cutaway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Jumpers striking aircraft in air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Medical (Heart attacks)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Canopy Collapse near Ground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Reserve mal.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Suicide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Strangulation by reserve riser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Unknown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Fatalities – Largest Group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24% Other Landing Err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4% Fast Canop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4% Low Cutawa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3% Main/Reserve Entangl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3% No/low Main Canopy Activation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IE" sz="4800" spc="-1" strike="noStrike">
                <a:solidFill>
                  <a:srgbClr val="ffffff"/>
                </a:solidFill>
                <a:latin typeface="Tahoma"/>
              </a:rPr>
              <a:t>Some Significant Figur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84% of the fatalities occurred with the parachutist having at least one good parachute on his/her bac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40% after the successful deployment of the main parachu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9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35% of fatalities might have been avoided by AAD u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9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94% of fatalities would appear to have been caused by human err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9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9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Tahoma"/>
              </a:rPr>
              <a:t>12 of the 92 Fatalities were First Jump Stud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9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Noticeable Tren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Increased use of A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Round Main Canopies being used l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Big movement towards Tandem jump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Report, along with 2001 AAD Report, has been sent by e-mail to all respondents and to all other countries for which we have e-mail addresses.  Hard copies are now available for delega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3-01-29T10:35:12Z</dcterms:modified>
  <cp:revision>7</cp:revision>
  <dc:subject/>
  <dc:title>SAFETY &amp; TRAINING FORUM 25 January 2003</dc:title>
</cp:coreProperties>
</file>