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9EAA-1D06-4676-9A92-875F3D276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195D-FDCA-4F04-A9E0-DA0411D488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2F9A-38FD-44AA-805E-4A0B0AFD7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1468-7970-42A0-AA3B-64A1A94C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2E38-A185-4BF0-B497-9CBB5D7A1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A57C-5B9D-4FEC-AC83-1755FCB24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5FAF-7D25-47E3-B9BA-0F1D13931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C436-37F8-420F-9E4D-6EFD50B8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2773-49AD-448E-89D4-378F70B1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9ABB-1480-4AD9-B7A3-20C2D486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8CF2-7C0A-4A0F-BCAB-48F584B5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4CE94-A68C-4A35-980E-99D4F3E8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1FC3-7C01-4DC3-9706-68887549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62CD-049A-4E96-96BC-30511063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1387-DA62-48A1-B6B0-8B548E56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D231-9828-40DD-897C-BCCC736C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0BFF-AE45-4757-B939-1A2A70BF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F984-7EC8-426B-98B6-B499D0590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3674-9EC6-449F-88E8-21A4D5EE2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058D-53EE-4B92-A9E9-37617907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FC98-06AC-453B-B3BB-B4E73914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6AFB-0417-414B-94D5-50424F3C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0BCC-FC52-4514-B659-08C66891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977F-B799-4C9D-8FF1-C6226F46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7570-4E0D-468C-A323-14A2B379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2DD9-10F2-4B19-869C-A591910F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BEE5-19E0-4442-BD51-38CCCC74B6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9019-C1C9-4392-95D4-D0D9E5001D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8.jpe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 Power Point Presen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Form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Notes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400" spc="-1" strike="noStrike">
                <a:solidFill>
                  <a:srgbClr val="ffffff"/>
                </a:solidFill>
                <a:latin typeface="Arial"/>
              </a:rPr>
              <a:t>A Report on Present International Regulations Regarding Diabetes Mellitus        Type 1 and Air S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13 are requested to make a speci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ffort to do so for 2014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ffffff"/>
                </a:solidFill>
                <a:latin typeface="Arial"/>
              </a:rPr>
              <a:t>Respon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68000" y="1628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39 countries responded, from a possible approximately 85, a response rate of 46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The response rate was similar to 2012 and has been about this rate for the 26 years of the Safety Surve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With computerised records now commonly used, it is regrettable that the collection of data for the Safety Report does not appear to be made in many countrie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Countries are strongly encouraged to set up data collection systems, which are an essential part of risk assessment and are of value in dealing with sports and aviation author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3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805,975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381,239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7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; there were no Tandem fatalities in 201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19,403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24,232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7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(1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Intermediate (1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(6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 Unicode MS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6983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-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or Low Main Deploy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 Caus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Equipment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 Malfunction , no ac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Jumper Fell from Harnes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utaway Good Canopy, no further action 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il strike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F wra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action, AAD fir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but did not cut reserve closing loo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_ipc_01_trait copie"/>
          <p:cNvPicPr/>
          <p:nvPr/>
        </p:nvPicPr>
        <p:blipFill>
          <a:blip r:embed="rId15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235116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- 25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pull on main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9% of 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– 12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+ 7 = 21 (37% of total fatalities, 5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, 42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26 (46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21 (37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51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REE of the 2013 Fatalities  (5% of 57) were First Jump Students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percentage of fatalities, 21 (37% of 57)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AAD and RSL now widely u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582,526 Solo jumps – 1,223,44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0 ; Solo Fatalities 57 (10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5-01-22T16:03:18Z</dcterms:modified>
  <cp:revision>97</cp:revision>
  <dc:subject/>
  <dc:title>SAFETY &amp; TRAINING FORUM 25 January 2003</dc:title>
</cp:coreProperties>
</file>