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7E40-81CA-4654-BE2B-61D662431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F75D-120A-4D18-9A9B-53A3177C7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694C-9792-4331-85C9-1A76B325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AEE6-DD04-4EFC-BEA0-261C2F9C8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3524-8416-4381-93E7-550D9580A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582EA-EE62-4C15-933B-F4B0B472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780EA-6C3D-45E1-92F0-1F743EF6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C8D49-D1DB-446F-BFC6-8B97541E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2FEC6-07A9-4FAB-88B7-4832A634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EF58C-FB19-423B-80AD-0F12C9F8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D2B8E-3ED8-450B-96A8-50063EFD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EE397-5670-428C-B56B-A7B8889D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A499-6F1F-4519-AA0A-DE83213F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CEA62-0481-4807-B5C9-EFBA7CEE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1066C-85E8-403A-8872-D82D2339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FB6F0-33D7-41F5-B1C8-C5327EC6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3991E-46B0-467D-8DEB-71B2692BB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9BF45-BD85-4128-A002-89CE51AFD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985A-E381-4C4D-A7F1-51C041B9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0C56-F919-4A47-ACAF-EBDC2493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EDBA-DDD8-4A69-9BFC-35A6BF0B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7D14-9D57-4F72-A022-ECC58215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97C4-5F5D-4033-AEFD-FF79DD56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8D1B-C67A-4F4C-BFF9-82F832BB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71B1-5EF3-45E3-9EB0-7AD05ED2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1C6D-F2F8-4C62-BD02-2D251C11CD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D307-DC55-42EF-9E77-B424E7103E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ternational Parachuting Commiss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IE" sz="4800" spc="-1" strike="noStrike">
                <a:solidFill>
                  <a:srgbClr val="ffffff"/>
                </a:solidFill>
                <a:latin typeface="Tahoma"/>
              </a:rPr>
              <a:t>2001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In 31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92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6.872,438 skydives were m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17,2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74,700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,534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400" spc="-1" strike="noStrike">
                <a:solidFill>
                  <a:srgbClr val="ffffff"/>
                </a:solidFill>
                <a:latin typeface="Tahoma"/>
              </a:rPr>
              <a:t>92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7 Studen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9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3 Interm.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5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42 Exper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46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51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Cutaway/No or low reserve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No pull/low pull on mai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Other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Other ‘ Fatalities (64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Other Landing Error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 Mal. – no cutaway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Jumpers striking aircraft in ai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edical (Heart attacks)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apse near Ground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Reserve mal.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trangulation by reserve rise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24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Low Cutawa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Main/Reserve Entangl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No/low Main Canopy Activatio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Tahoma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84% of the fatalities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40%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35% of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94% of fatalities would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Tahoma"/>
              </a:rPr>
              <a:t>12 of the 92 Fatalities were First Jump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Noticeabl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Report, along with 2001 AAD Report, has been sent by e-mail to all respondents and to all other countries for which we have e-mail addresses.  Hard copie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3-01-29T10:35:12Z</dcterms:modified>
  <cp:revision>7</cp:revision>
  <dc:subject/>
  <dc:title>SAFETY &amp; TRAINING FORUM 25 January 2003</dc:title>
</cp:coreProperties>
</file>