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ADDA-30B1-4E8D-9024-E0CEC3863F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3ED1-3424-4BFA-816A-81052050E7A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B38A-C4FA-4479-8EA0-4E50034F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78CC-1A4D-4C56-9AE8-E9369644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8B40-95F5-4993-B5C8-D3A7E5B3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7364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4272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7364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4272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C4D3-EE65-4EC7-BB87-D4B55AD0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3F23-1816-4B0A-9F29-B5945F00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9D36-3680-4754-9A92-AB731116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BE25-1AE7-4627-A7C9-BA902865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7850-B8F3-4AAF-8313-0FED9C87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ECB4-5252-4EEA-893C-BB379A9B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57B0-A582-4570-9E97-5CF623E0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6BD6-2273-45A1-96B2-8DC24750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133E-CDBF-4B0F-934D-72DEBD62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86C1-146A-498E-939D-05DEB534A658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A1B0-EDF9-4632-80D4-6ED8AE467ABD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520" y="4508280"/>
            <a:ext cx="951696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br>
              <a:rPr sz="4400"/>
            </a:br>
            <a:br>
              <a:rPr sz="4400"/>
            </a:br>
            <a:r>
              <a:rPr b="0" lang="fr-FR" sz="3200" spc="-1" strike="noStrike">
                <a:solidFill>
                  <a:srgbClr val="000000"/>
                </a:solidFill>
                <a:latin typeface="Eurostile"/>
              </a:rPr>
              <a:t>Juergen K Knueppel MD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Eurostile"/>
              </a:rPr>
              <a:t>FAI-CIMP Issues  </a:t>
            </a:r>
            <a:r>
              <a:rPr b="0" lang="de-DE" sz="4000" spc="-1" strike="noStrike">
                <a:solidFill>
                  <a:srgbClr val="000000"/>
                </a:solidFill>
                <a:latin typeface="Eurostile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Eurostile"/>
              </a:rPr>
              <a:t>-commission internationale medico physiologique-</a:t>
            </a:r>
            <a:endParaRPr b="0" lang="en-US" sz="16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9800" y="1052280"/>
            <a:ext cx="940428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Flight Safety Data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Human Factors, Request for competent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Accident Investigation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Advise to Commissions,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ICAO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Proactive Flight Safty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 Initiativ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 TUE Pannel  -  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necessary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Eurostile"/>
              </a:rPr>
              <a:t>“Doping“ waivor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oblem:(“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older”) athletes taking already for year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quired medicine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Answer an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lated questions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 anytim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: Medical and Physiological expertise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300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EASA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Medical Licencing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Sporting Licence (FAA-SPL ?), </a:t>
            </a:r>
            <a:r>
              <a:rPr b="0" lang="de-DE" sz="1200" spc="-1" strike="noStrike">
                <a:solidFill>
                  <a:srgbClr val="000000"/>
                </a:solidFill>
                <a:latin typeface="Eurostile"/>
              </a:rPr>
              <a:t>Beta Blockers</a:t>
            </a:r>
            <a:endParaRPr b="0" lang="en-US" sz="1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Support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i.e. G-Forces, Oxygen, Emergency Plans, CISM, other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09:05:47Z</dcterms:modified>
  <cp:revision>484</cp:revision>
  <dc:subject/>
  <dc:title>Présentation PowerPoint</dc:title>
</cp:coreProperties>
</file>